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D5BB-1962-4F33-945A-3E5E332E1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6792-6C0F-45C9-9C0C-CBB48B7B2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2C9D-BB02-4192-ADA1-0B3BD8F65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15B9-D152-4716-A1BF-ACB1B317E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7EF9-1A34-483B-93B8-EDF1F5A08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C800-A655-4F85-8C42-017967D63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B44D-88A7-4D80-8660-D96CDEDF4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A555-6770-4BA9-94A0-3C7040A67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7049-B705-4246-87E8-AC68EEC61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0CC8-C7F7-4B9D-9B60-FDB515FE2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448F-6186-4638-8093-758EF216A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3B9F-304A-4E81-A8B9-76CDA54C3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72E-C2D2-4167-9AD0-448908FEFA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559-F685-4B4B-BDCC-557270F3D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2BE-EA1E-4D29-B088-012BA58B50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3A7A-6C1D-4AB1-AC27-1B8CA2A9E3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 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 m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7F6-C5DE-49A8-A332-F1037E9E85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63AD-129D-4683-B318-9C876F176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661-6847-4974-9F84-F42CF517E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D5CF-B9A2-4FB2-A248-56A9C314B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A1F-C855-4855-948B-A505BDD70D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D77-6776-4A9A-8EA4-DB9F8A8AC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9F5-CB68-451A-B91E-560405876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50D-4BCA-4E5D-924B-9DD34DBF4C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r Ques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B56-E815-4EE7-A004-1F6DA0D598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821-292F-48CB-8FDB-633383D3EB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A9E-14DB-4E60-A051-B72E43C779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B8A-3C12-4273-AFB3-956AE966C0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e Were Here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 the different concrete models created yesterd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One person from each group stay with your model to 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an you guess the function from the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a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have unresolved questions, record them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633E-1048-42B2-8698-B7B797D096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150D-BE92-4D14-88CB-60F2D2BAB8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Viewing the Area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98C-BAEC-4853-89A8-D2139E6F4A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349F-62D7-43C1-901F-D2A0EA4E55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201-340D-424E-BB92-B7D4D3FA9F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3E9D-0CF1-4B24-903C-A2E0EA0F75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3777-ABF2-4B57-959C-38C4207EC6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12E-EE5A-4356-9747-0BCAEC0E3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 to communicate your thinking with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5CD2-784C-4346-B043-88197B65F7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AE2-960A-442C-95A3-4D48196637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6T19:06:16Z</dcterms:modified>
  <cp:revision>27</cp:revision>
  <dc:subject/>
  <dc:title>&lt;Title&gt;</dc:title>
</cp:coreProperties>
</file>